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E42-D33D-44BF-B1D9-61C59605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526E-D309-4A72-A549-F62E473D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0C2-7AF2-4880-9D70-C0B00C67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A925-6251-414C-BBAA-D91D5318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53E6-8E33-408F-AAC0-1037E4F8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5A64-E2B3-483C-98A9-6551E796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025F-6183-49C7-9EC0-4E2E688D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4BED-0D4E-4063-B3C3-8DEA6F11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A7B5-75BC-4D68-B635-493BA106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9088-B355-4B81-93EE-98B7BF77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A8B2-9133-4E3C-81F9-B0025B9C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478-0630-4170-A224-6FDFBA8A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BF39-7B07-41F6-AB47-940F2A2A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E72A-F5FB-4C25-AFBB-02EB6C94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B08C-7D27-4DF3-9EC2-20D6BA74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0C97-70AC-49D6-9187-CF7B68EA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392E-DEB3-4C28-95C7-67E1244E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26AA6-3708-4D6F-B062-29EDD1DA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43B1E-4694-4BD6-AAEB-91649665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31F28-C406-41D9-BAF0-A1B97038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645C4-435D-48A5-AED2-59306CBA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B0347-B1FD-4163-A13C-B977DD3F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D1C-DEE1-451F-B5BA-6C423C7C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D30E2-6E58-4E59-99C6-B9B7B2BE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1FB7-E62C-4C0E-8EE6-BC276556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D6059-5845-4BA3-931F-83ACC47D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A6D68-C035-4EDD-A1A1-871FEB04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0FF58-CA0B-43DB-B172-35FC2E7B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F487D-9034-4D03-B546-C161D06F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3AE20-D05A-4200-9615-87A7364F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1202E-2A80-4A18-9CE1-8641B82E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1DF9A-693D-4B96-9B97-7B45E3DE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ED161-C297-4FA2-AE5F-D7AA8034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6FED-7CEC-4B99-B663-E9F2C229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0ADCD-9D52-40C5-B9A5-89D5F6C6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FBFB7-D133-444D-8068-0A1C9A86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DD212-13CF-4BD9-A729-5E7ABAA7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CD081-F8A3-45E0-B815-18F5D96A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97E91-8A11-4076-8DE7-E661D899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1B434-DB0B-4313-B081-9D02F09A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A8489-B7BA-49B2-A723-2458EF10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A0286-C112-4E28-A6C7-29E4CCA7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69ECC-1564-49EA-8707-F5EEBE46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D16D2-EEC2-4630-B569-CB03C36A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897-9917-46B4-AFF5-EA789187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653D4-CD50-4E9C-AC83-22DC01B7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41443-EB46-4CD1-9852-D12EC5B7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6AFB8-9C2B-41FA-9C03-046ACC2D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90389-11FD-4C23-A759-B08049E7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063AE-2C8C-43B3-96D5-400894CA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170C5-7E19-4916-887F-D5647593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34A09-8BC5-4ED2-9486-BDA3A2A0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65BA3-9ED5-4C0A-BD9E-9C52FAAF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D60C3-C8C5-4CEF-94ED-5E33724F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3BC39-83FC-4D13-97AC-63AA83C59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4AA-7DDC-46D8-B4C0-FB4BB331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12F45-9D3C-456A-A710-8C7B36FC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1F7E7-9A06-4156-AC6E-03A8A367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99639-C854-453B-A53F-D92CD090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3AF2A-C36E-4194-99E4-5FBDF498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3E6DD-D29B-401E-BEB9-B4AD68FB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A3F95-2CC4-4CA8-BDBC-8D76535E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884DE-CD8F-4ADB-A8A8-B229930B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CA5A6-18FA-4D4A-9709-AC4BC6B3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2916F-EB1F-448A-B267-486F666F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6E5A5-941D-4856-99CE-6C48BD3E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32F-E70E-4C09-9BD5-B6A53D3D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37A6C-FA7C-4D56-9CE2-D68CBA5F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A415D-8D6D-452B-A3B3-B6EA3289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86599-D06C-4EC6-A28A-32703A4A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04915-B39C-4F6B-A1EF-BC06DAA4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B35DA-F983-4C6C-BD63-44635DFE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8C88B-86C1-4294-BFFC-A47151AF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F0F01-0E8A-49F2-B402-72D8721F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1B103-468E-41A2-9B5F-11B425BE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A1B41-12D0-4719-949B-B7A6BA7C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C8641-B06C-46BE-84F4-CED5CDF0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6C8-AAC6-40EA-974F-8B39DB51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81C7F-D8AE-46C4-A7FA-41265710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A9366-12C9-4681-93D4-04596193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E75E6-3150-4C9B-AE4D-25ABA474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4E141-22E7-4536-9CFC-C2DF009E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D4072-1CCB-4716-AC53-3706CB72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004-A7C0-43D3-BF33-3C37D8D3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E160-931A-4441-9942-3C73E5A0DFA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2D69-E242-4CA9-96EC-EBC2058654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B8C3-74B5-4C80-BEBA-0B1CA93356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7CCA-9DA3-4494-91E6-31F5C426C19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89E7-CA31-48CA-8C4D-73E9CC6EEAE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028D-67CE-4CA2-9754-148C0B33502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C8D3-991F-4030-B60A-CB89E46C30D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9156960" cy="3859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3"/>
          <a:stretch/>
        </p:blipFill>
        <p:spPr>
          <a:xfrm>
            <a:off x="228600" y="480060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"/>
          <p:cNvPicPr/>
          <p:nvPr/>
        </p:nvPicPr>
        <p:blipFill>
          <a:blip r:embed="rId4"/>
          <a:stretch/>
        </p:blipFill>
        <p:spPr>
          <a:xfrm>
            <a:off x="5410080" y="2514600"/>
            <a:ext cx="3591000" cy="37432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"/>
          <p:cNvPicPr/>
          <p:nvPr/>
        </p:nvPicPr>
        <p:blipFill>
          <a:blip r:embed="rId5"/>
          <a:stretch/>
        </p:blipFill>
        <p:spPr>
          <a:xfrm>
            <a:off x="2438280" y="4495680"/>
            <a:ext cx="2895840" cy="1752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http://upload.wikimedia.org/wikipedia/commons/b/b3/Strip_coal_mining.jpg"/>
          <p:cNvPicPr/>
          <p:nvPr/>
        </p:nvPicPr>
        <p:blipFill>
          <a:blip r:embed="rId6"/>
          <a:stretch/>
        </p:blipFill>
        <p:spPr>
          <a:xfrm>
            <a:off x="2438280" y="2514600"/>
            <a:ext cx="2895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economy meets people’s basic need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 societies grow, their economies go beyond meeting basic needs and provide unnecessary luxuries. (things we w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refore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economy is a system of supplying goods and services to meet the demand for people’s needs and wan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09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economy consists of the production, distribution, trade, and consumption of goods and servic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Production: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king goods and servi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Distribution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ving goods and services to a “market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Trade: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lling or exchanging goods and servi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Consumption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uying and using goods and servi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ny of the things people need and want are </a:t>
            </a:r>
            <a:r>
              <a:rPr b="0" lang="en-US" sz="3200" spc="-1" strike="noStrike">
                <a:solidFill>
                  <a:srgbClr val="00b050"/>
                </a:solidFill>
                <a:latin typeface="Corbel"/>
              </a:rPr>
              <a:t>tangibl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(physical, touchable) object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se products-whether grown, mined, or manufactured from raw materials- are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economic good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685800" y="4343400"/>
            <a:ext cx="3124080" cy="2116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" descr=""/>
          <p:cNvPicPr/>
          <p:nvPr/>
        </p:nvPicPr>
        <p:blipFill>
          <a:blip r:embed="rId3"/>
          <a:stretch/>
        </p:blipFill>
        <p:spPr>
          <a:xfrm>
            <a:off x="4952880" y="39625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219240" y="317520"/>
            <a:ext cx="8474040" cy="1365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t all economic products are tangibl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b050"/>
                </a:solidFill>
                <a:uFillTx/>
                <a:latin typeface="Corbe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– any action that helps another person meet a need or wa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Legal or conflict resolution servi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Healthcare servi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Public &amp; personal service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 busses, barbers, massage therapists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staurant workers, etc.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y of the spatial distribution of economic activit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Where do different economic activities occu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Why do certain economic activities occur or not occur in different plac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What is the nature of economic activities in different places?  How does the location affect the nature of the economic activiti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0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hy do farmers in southwestern Minnesota raise pigs and grow corn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here are diamonds mined?  How?  Why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hy do people from Asia grow and eat a lot of rice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hy are there factories in Northeast Minneapolis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hy is Pittsburgh’s NFL team the Steelers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hy do law firms and big companies have offices in downtown Minneapolis and St. Paul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se, and many more exciting economic geography questions brought to you by the following products…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ad the short handout about the types of economi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ditiona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man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ix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ad the Economic Activities packe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lete the Lotus Diagram-directions to follow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23:48:13Z</dcterms:created>
  <dc:creator>Tim and Heather Berndt</dc:creator>
  <dc:description/>
  <dc:language>en-US</dc:language>
  <cp:lastModifiedBy>hberndt</cp:lastModifiedBy>
  <dcterms:modified xsi:type="dcterms:W3CDTF">2010-04-26T12:26:12Z</dcterms:modified>
  <cp:revision>9</cp:revision>
  <dc:subject/>
  <dc:title>Slide 1</dc:title>
</cp:coreProperties>
</file>